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854-9BCD-41B7-A496-B001DE8F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21F-27E1-4CB3-A33C-257B4757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FEE-8129-4809-BDEA-4E9640C1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279-61A9-478C-9610-722E8FFD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86F-4054-41B5-9985-AC16DAD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86B-B32E-41DE-AEF6-3432EC99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FDF-5446-4709-9DC1-C16D7273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8BE-6B35-49D2-9811-F49AEE5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D1E-DB1A-47BA-9FB8-306270F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248-5428-4655-A085-1AB78673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B29-10B5-4A1F-A5A0-D3CC796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5D5-FE81-4597-84EB-DB8B55A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4363-7F50-4A56-B492-96A0C03B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5640" y="2890800"/>
            <a:ext cx="7991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Аз ще възпея на Исуса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удната Му любов към мен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е Той на кръста зле пострада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за да съм аз освободен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080" y="3608280"/>
            <a:ext cx="816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Аз ще да хваля тоз Спасител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че е надвил над сатана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тъй е станал Победител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над греховете и смърт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9360" y="3679920"/>
            <a:ext cx="732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За мой Спас ще аз да пея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на кръста как за мен умря,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та във блаженство да живея</a:t>
            </a:r>
            <a:br>
              <a:rPr sz="44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дружно със Него във неб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7360" y="2922480"/>
            <a:ext cx="782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Пей, о, пей за тоз Спасите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оя дълг Той е заплатил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мен със кръвта Си е изкуп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и от греха освобод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4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7:36:00Z</dcterms:created>
  <dc:creator>TrifonTrifonow</dc:creator>
  <dc:description/>
  <dc:language>en-US</dc:language>
  <cp:lastModifiedBy>TrifonTrifonow</cp:lastModifiedBy>
  <dcterms:modified xsi:type="dcterms:W3CDTF">2005-11-22T07:16:42Z</dcterms:modified>
  <cp:revision>10</cp:revision>
  <dc:subject/>
  <dc:title>Slide 1</dc:title>
</cp:coreProperties>
</file>